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5C41-C52A-40BE-9CED-FAC02FA7B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501C-44DB-40E4-8561-01A76933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17C6-B10C-46E7-93AA-B548DE053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475C-B5C0-4FCE-949B-9670A11B9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CEF8F-F0BE-43AD-8442-88A1976C9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7C35-E953-473D-A441-B8EC4E85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D9C2-E9B7-4ACB-85A3-ED3301F5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72FC-90B0-4AC6-9D06-E8AADE12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D18B-3B3D-4658-9E12-60302D60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9D28-278F-4055-BF0D-BD833CC4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DC5D-E379-423A-82B6-BABDEF86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4C88-71E3-4442-B518-B2337D0C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44E7C-E6C9-4FBB-9EE6-403EFA08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43D26-9BB0-4D65-A908-352A38FE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6D65-2D62-4E99-986A-BFA721D6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D10D-6B80-4FBC-BC24-6D40F8C91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5F1F-B3FB-4DF2-A5B5-39DD56C77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87245-358D-468E-A29A-3626DC8FA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E9698-C78C-477A-8462-7C994990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F6C09-1ECB-41D9-B65B-F690A0C4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09A8A-A6FA-4AD4-837D-5FE68E19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2E0F3-CBE3-459A-9E68-7E7126D3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F64F-B330-4BD5-90E7-8B1160B7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2801D-1241-42E5-9038-5B1232E1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D363B-C615-4F98-BD9F-C733FDEA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FFE7A-B68B-4E18-9D8C-C7992000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19DA0-3051-4BF7-9AEE-51947ED2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453B5-9181-4245-A9BB-2136C548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D6D1C-346C-4155-AD15-C02A3233E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62812-358D-47BD-9664-98D1707DD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0CBAC-E85D-44E6-B7CE-C909F764E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9A9CB-2461-4B9C-9DAB-4AB9AACD5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C888E-DDA6-47DF-82D1-97040618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8500-DD54-4583-BF93-E236DA4F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AC052-03B1-4F76-AF59-68C7CCA0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C4688-1BC3-45D8-ABB7-83FBBF45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3EB57-A06E-4996-B49C-99F6D9D6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F28ED-3515-470C-B20A-6B4FE491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4C4A9-F091-42CA-85D5-0B040979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57542-4A93-4557-BD02-68A5DB95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59122-781A-47E2-A4B5-545C67D6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C82EC-93A4-481A-AFE2-EF8F56377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CEEB0-4EAE-4507-ACBE-CCE49522C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9A960-93F9-4B5E-B18E-888BD647D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8144-23A2-48E8-9BC1-6597B750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706A3-B56A-4AE9-868E-758CE209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49F02-5D9A-447B-AC98-71E6E8D1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9174A-CFB0-4E7F-9194-904FAC53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7457C-6AC8-4382-B9E6-8FDB0511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F730E-EAAC-44A0-95B3-48D414FB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7B9AF-5250-4B38-BABF-9AAEABB7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5C4AE-ED0C-4F59-B949-FFB6AD12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3CA82-03D5-47C6-94BD-E43A517D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2D45F-206C-485E-9251-C0DC9928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E4CF4-309F-4E5B-9C23-C96F7C354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CC7E-23AA-4D7A-BEE8-DAEB3B06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82F3A-83B2-4F3C-B6EB-28DE9E653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A8924-377B-4B3D-822A-2366169BF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1781D-C685-4D05-9FA9-1B82F157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3F3FD-5093-457B-87EB-6D1DA874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00349-5E7E-4069-97FE-38B0DC97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F8728-EAAD-42A9-AFBA-AEF3AACE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35581-028A-41BF-93D2-EEA668FC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EAE0D-E6EA-4227-8415-DE9F7B41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52350-46B1-4B33-80C9-4B251AD4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32960-4E1C-4749-A607-0E5AD99D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5190-892A-4F14-A502-EDE735AE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650DB-7151-4154-95E6-98E6BD67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83DB9-10A8-4FD8-B828-5E7B48698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33CB0-221D-4E37-98A4-75F3A81CD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42ABC-0AF1-4183-9275-590659C28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6D926-D427-45F7-8644-643C74F6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36BAD-E82B-4320-A3B8-85FDD0AE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0AA72-BDF8-4907-B49C-4D5233FA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469C0-035A-4FA8-87BC-455C2D2A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3F126-4536-43BF-A017-DEA9DCEB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952C2-C4B5-4AF6-B13E-0BA8FBEA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D1F6-0575-46E7-93F8-F05FE360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6ACF6-EC8C-4239-8F03-D00B47D9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09E65-19D6-415C-B279-4B62DBE4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EE075-7231-4978-83C3-94B4977D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E0EF5-DD7A-459B-BAD9-0715AA8B7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DAE1B-C4E6-4EFC-BC67-0E80518F4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F2C9A-1474-4A89-9994-AB227BC9B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A8E0E-C5EB-4009-9D4E-DAC0150D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5C7B4-8D4B-4864-A172-AFEDCC0D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A3DAD-03AD-4910-8B8D-DBDB764B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BACCA-4FDF-4793-BAB5-607AF5F2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9238-B2E3-4383-86FD-B7247BC4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2E67E-329B-4C60-A9C4-94F94F43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46C8C-4650-4272-8B2D-0E860BE9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81420-40E8-4B22-A9AE-42D28D0A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B46FF-1806-461C-BC5E-B56938A2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80188-277D-4881-B607-5832A95B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B374F-AABA-4B4E-B7A7-6965CCE59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56F53-E53F-4E77-ADD0-8B5A4EF7D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onstantia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1289-E493-4E96-8738-93033207C931}" type="slidenum"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onstantia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379C-AFE3-4321-801E-524CD6C99E3E}" type="slidenum"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onstantia"/>
              </a:rPr>
              <a:t>Click to edit the title text format</a:t>
            </a:r>
            <a:endParaRPr b="0" lang="en-US" sz="3200" spc="-1" strike="noStrike">
              <a:solidFill>
                <a:srgbClr val="eeece1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8D01-72E1-46E5-BECB-39AA2E5464DF}" type="slidenum">
              <a:rPr b="0" lang="ru-RU" sz="14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onstantia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C1BB-AFD5-45AA-88E1-F09AED34614E}" type="slidenum"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onstantia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BD97-52DD-4A7A-9636-CD16BF7B4831}" type="slidenum"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Равнобедренный треугольник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onstantia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52AF-91E4-4892-BA82-F5E8B267C2E4}" type="slidenum"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Прямоугольник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onstantia"/>
              </a:rPr>
              <a:t>Click to edit the title text format</a:t>
            </a:r>
            <a:endParaRPr b="0" lang="en-US" sz="3200" spc="-1" strike="noStrike">
              <a:solidFill>
                <a:srgbClr val="eeece1"/>
              </a:solidFill>
              <a:latin typeface="Constant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806E-FDAB-44A2-B6D9-17DBC7AB0051}" type="slidenum">
              <a:rPr b="0" lang="ru-RU" sz="14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Прямая соединительная линия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onstantia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9714-6B90-41A9-B9D6-C0119101876C}" type="slidenum"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teacher-of-russia.ru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Мастер-класс</a:t>
            </a: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1f497d"/>
                </a:solidFill>
                <a:latin typeface="Constantia"/>
              </a:rPr>
              <a:t>Пахомова Елена Михайловна, заведующая кабинетом педагогического опыта АПК иППРО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1428840" y="1857240"/>
            <a:ext cx="607212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1554120" y="1424160"/>
            <a:ext cx="603576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1554120" y="1424160"/>
            <a:ext cx="603576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1554120" y="1424160"/>
            <a:ext cx="603576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1554120" y="1424160"/>
            <a:ext cx="603576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04a7b"/>
                </a:solidFill>
                <a:latin typeface="Constantia"/>
              </a:rPr>
              <a:t>Критерии и показатели оценивания мастер-класса</a:t>
            </a:r>
            <a:endParaRPr b="0" lang="en-US" sz="36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1" lang="ru-RU" sz="2600" spc="-1" strike="noStrike">
                <a:solidFill>
                  <a:srgbClr val="604a7b"/>
                </a:solidFill>
                <a:latin typeface="Constantia"/>
              </a:rPr>
              <a:t>Содержательный аспект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04a7b"/>
                </a:solidFill>
                <a:latin typeface="Constantia"/>
              </a:rPr>
              <a:t>- сущность предлагаемой проблемы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04a7b"/>
                </a:solidFill>
                <a:latin typeface="Constantia"/>
              </a:rPr>
              <a:t>- идея реализации проблемы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04a7b"/>
                </a:solidFill>
                <a:latin typeface="Constantia"/>
              </a:rPr>
              <a:t>- актуальность и научнос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04a7b"/>
                </a:solidFill>
                <a:latin typeface="Constantia"/>
              </a:rPr>
              <a:t>- способность к методическому и научному обобщени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04a7b"/>
                </a:solidFill>
                <a:latin typeface="Constantia"/>
              </a:rPr>
              <a:t>Критерии и показатели оценивания мастер-класса</a:t>
            </a:r>
            <a:endParaRPr b="0" lang="en-US" sz="36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04a7b"/>
                </a:solidFill>
                <a:latin typeface="Constantia"/>
              </a:rPr>
              <a:t>2. Деятельностный аспект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04a7b"/>
                </a:solidFill>
                <a:latin typeface="Constantia"/>
              </a:rPr>
              <a:t>- приемы мотивации участников мастер-класс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04a7b"/>
                </a:solidFill>
                <a:latin typeface="Constantia"/>
              </a:rPr>
              <a:t>- способность к распространению педагогического опыт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04a7b"/>
                </a:solidFill>
                <a:latin typeface="Constantia"/>
              </a:rPr>
              <a:t>- технологичнос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04a7b"/>
                </a:solidFill>
                <a:latin typeface="Constantia"/>
              </a:rPr>
              <a:t>- оптимальность используемых средств решения проблем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04a7b"/>
                </a:solidFill>
                <a:latin typeface="Constantia"/>
              </a:rPr>
              <a:t>Критерии и показатели оценивания мастер-класса</a:t>
            </a:r>
            <a:endParaRPr b="0" lang="en-US" sz="36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04a7b"/>
                </a:solidFill>
                <a:latin typeface="Constantia"/>
              </a:rPr>
              <a:t>3. Личностные качества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04a7b"/>
                </a:solidFill>
                <a:latin typeface="Constantia"/>
              </a:rPr>
              <a:t>- способность к импровизаци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04a7b"/>
                </a:solidFill>
                <a:latin typeface="Constantia"/>
              </a:rPr>
              <a:t>- степень воздействия на аудиторию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04a7b"/>
                </a:solidFill>
                <a:latin typeface="Constantia"/>
              </a:rPr>
              <a:t>- эрудиц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04a7b"/>
                </a:solidFill>
                <a:latin typeface="Constantia"/>
              </a:rPr>
              <a:t>- стиль общен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04a7b"/>
                </a:solidFill>
                <a:latin typeface="Constantia"/>
              </a:rPr>
              <a:t>- артистичнос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04a7b"/>
                </a:solidFill>
                <a:latin typeface="Constantia"/>
              </a:rPr>
              <a:t>- общая культур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f497d"/>
                </a:solidFill>
                <a:latin typeface="Constantia"/>
              </a:rPr>
              <a:t>Полезные адреса </a:t>
            </a:r>
            <a:endParaRPr b="0" lang="en-US" sz="60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ff"/>
                </a:solidFill>
                <a:uFillTx/>
                <a:latin typeface="Constantia"/>
                <a:hlinkClick r:id="rId1"/>
              </a:rPr>
              <a:t>www.teacher-of-russia.ru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558ed5"/>
                </a:solidFill>
                <a:uFillTx/>
                <a:latin typeface="Constantia"/>
              </a:rPr>
              <a:t>http://apkpro.com/ikio/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04a7b"/>
                </a:solidFill>
                <a:latin typeface="Constantia"/>
              </a:rPr>
              <a:t>Мастер-класс: Что? Для чего? Как?</a:t>
            </a: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1143000" y="1785960"/>
            <a:ext cx="62150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Constantia"/>
              </a:rPr>
              <a:t>Что такое мастер-класс?</a:t>
            </a:r>
            <a:endParaRPr b="0" lang="en-US" sz="48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Мастер-класс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— это интерактивная форма обучения и обмена опытом, объединяющая формат тренинга и конференци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Мастер-класс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(от английского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masterclass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master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— лучший в какой-либо области +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class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— занятие, урок) действительно является семинаром, который проводит эксперт в определённой дисциплине, для тех, кто хочет улучшить свои практические достижения в этом предмете. Очевидно, таким образом, что мастер-классы не показывают, а проводят. Придя в русский язык, слово «мастер-класс» и вовсе получило самое широкое значение; так теперь называют практически любой семинар, проводимый опытным человеком, неважно, в какой области знаний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f497d"/>
                </a:solidFill>
                <a:latin typeface="Constantia"/>
              </a:rPr>
              <a:t>Идея мастер-класса</a:t>
            </a:r>
            <a:endParaRPr b="0" lang="en-US" sz="54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Взаимообучение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Взаимосовершенствование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onstantia"/>
              </a:rPr>
              <a:t>Я знаю, как это делать. Я научу вас</a:t>
            </a: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gradFill rotWithShape="0">
            <a:gsLst>
              <a:gs pos="0">
                <a:srgbClr val="dcf0be"/>
              </a:gs>
              <a:gs pos="100000">
                <a:srgbClr val="dcf0be"/>
              </a:gs>
            </a:gsLst>
            <a:lin ang="900000"/>
          </a:gradFill>
          <a:ln w="9360">
            <a:solidFill>
              <a:srgbClr val="9bbb59"/>
            </a:solidFill>
            <a:miter/>
          </a:ln>
          <a:effectLst>
            <a:outerShdw dist="25560" dir="54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Мастер-класс — это двусторонний процесс: «преподаватель — слушатель»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Мастер: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показывает, включает в работу, просит повтори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лушатель-участник МК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: выполняет предложенное, повторяет, предлагает свой способ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1554120" y="1424160"/>
            <a:ext cx="603576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f497d"/>
                </a:solidFill>
                <a:latin typeface="Constantia"/>
              </a:rPr>
              <a:t>Мастер-класс – это…</a:t>
            </a:r>
            <a:endParaRPr b="0" lang="en-US" sz="54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 algn="just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Мастер-класс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 — современная форма проведения обучающего тренинга-семинара для отработки практических навыков по различным методикам и технологиям с целью повышения профессионального уровня и обмена передовым опытом участников, расширения кругозора и приобщения к новейшим областям знания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1f497d"/>
                </a:solidFill>
                <a:latin typeface="Constantia"/>
              </a:rPr>
              <a:t>Рекомендации по подготовке мастер-класса</a:t>
            </a:r>
            <a:endParaRPr b="0" lang="en-US" sz="29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1.Выберите ведущую педагогическую идею, которую вы хотите проиллюстрировать на мастер-классе и свяжите ее с темо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2. Определите цели и задачи в связи с темой, которые вы хотите достигнуть на мастер-класс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3. Придумайте проблему, вопрос, парадокс, вводящие в вашу тему занятия и представляющие интерес для «учащихся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4. Подберите технические средства (минимально) и различные формы работы к данным целям и задача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1f497d"/>
                </a:solidFill>
                <a:latin typeface="Constantia"/>
              </a:rPr>
              <a:t>Рекомендации по подготовке мастер-класса</a:t>
            </a:r>
            <a:endParaRPr b="0" lang="en-US" sz="29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5. Придумайте неожиданные предметы или открытия в обычном удивительного, которые раскрывают ведущую педагогическую иде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6. Включите фантазию, придумайте интересный замысел мастер-класс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7. Составьте подробный план занят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8. Тщательно проверьте технику и работу микрофонов перед началом мастер-класс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9. Расставьте стулья, столы и доску так, как вам нужн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10. Когда все готово — дайте команду организаторам, что можно начинат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12:35:30Z</dcterms:created>
  <dc:creator>Пахомова</dc:creator>
  <dc:description/>
  <dc:language>en-US</dc:language>
  <cp:lastModifiedBy>Пахомова</cp:lastModifiedBy>
  <dcterms:modified xsi:type="dcterms:W3CDTF">2011-02-13T07:46:47Z</dcterms:modified>
  <cp:revision>8</cp:revision>
  <dc:subject/>
  <dc:title>Слайд 1</dc:title>
</cp:coreProperties>
</file>